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0F09-5BCE-4820-8EAE-1B6522C1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B3CF-F7A4-4550-8836-0E4044D3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81B-A97F-4E06-80F0-E9983643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72B-708F-4FA6-BAED-F1B33ECA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5924-5C82-4726-AD91-BB039513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D97A-80E7-47B6-91AD-6A2FF42E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C885-4F6D-405F-B37A-C257E9CB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2224-C11C-4335-AF97-07031E83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FA16-B743-43C2-9164-C810CEED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6720-A7AF-47FA-8CDB-205850B8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B84D-5DA0-4A1C-976A-2F282CA6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DD7-DB58-4EA7-B487-0FBFC131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7273-6287-4A40-936D-35B6BEBCA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4" Type="http://schemas.microsoft.com/office/2007/relationships/media" Target="file:///tmp/home/.config/libreoffice/4/user/gallery/&#1047;&#1072;&#1087;&#1080;&#1089;&#1072;&#1085;&#1085;&#1099;&#1081;%20&#1079;&#1074;&#1091;&#1082;" TargetMode="External"/><Relationship Id="rId5" Type="http://schemas.openxmlformats.org/officeDocument/2006/relationships/image" Target="../media/image1.png"/><Relationship Id="rId6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7" Type="http://schemas.microsoft.com/office/2007/relationships/media" Target="file:///tmp/home/.config/libreoffice/4/user/gallery/&#1047;&#1072;&#1087;&#1080;&#1089;&#1072;&#1085;&#1085;&#1099;&#1081;%20&#1079;&#1074;&#1091;&#1082;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3" Type="http://schemas.microsoft.com/office/2007/relationships/media" Target="file:///tmp/home/.config/libreoffice/4/user/gallery/&#1047;&#1072;&#1087;&#1080;&#1089;&#1072;&#1085;&#1085;&#1099;&#1081;%20&#1079;&#1074;&#1091;&#1082;" TargetMode="External"/><Relationship Id="rId4" Type="http://schemas.openxmlformats.org/officeDocument/2006/relationships/image" Target="../media/image1.png"/><Relationship Id="rId5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6" Type="http://schemas.microsoft.com/office/2007/relationships/media" Target="file:///tmp/home/.config/libreoffice/4/user/gallery/&#1047;&#1072;&#1087;&#1080;&#1089;&#1072;&#1085;&#1085;&#1099;&#1081;%20&#1079;&#1074;&#1091;&#1082;" TargetMode="External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8" Type="http://schemas.microsoft.com/office/2007/relationships/media" Target="file:///tmp/home/.config/libreoffice/4/user/gallery/&#1047;&#1072;&#1087;&#1080;&#1089;&#1072;&#1085;&#1085;&#1099;&#1081;%20&#1079;&#1074;&#1091;&#1082;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11" Type="http://schemas.microsoft.com/office/2007/relationships/media" Target="file:///tmp/home/.config/libreoffice/4/user/gallery/&#1047;&#1072;&#1087;&#1080;&#1089;&#1072;&#1085;&#1085;&#1099;&#1081;%20&#1079;&#1074;&#1091;&#1082;" TargetMode="External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2" Type="http://schemas.microsoft.com/office/2007/relationships/media" Target="file:///tmp/home/.config/libreoffice/4/user/gallery/&#1047;&#1072;&#1087;&#1080;&#1089;&#1072;&#1085;&#1085;&#1099;&#1081;%20&#1079;&#1074;&#1091;&#1082;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5" Type="http://schemas.microsoft.com/office/2007/relationships/media" Target="file:///tmp/home/.config/libreoffice/4/user/gallery/&#1047;&#1072;&#1087;&#1080;&#1089;&#1072;&#1085;&#1085;&#1099;&#1081;%20&#1079;&#1074;&#1091;&#1082;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&#1047;&#1072;&#1087;&#1080;&#1089;&#1072;&#1085;&#1085;&#1099;&#1081;%20&#1079;&#1074;&#1091;&#1082;" TargetMode="External"/><Relationship Id="rId8" Type="http://schemas.microsoft.com/office/2007/relationships/media" Target="file:///tmp/home/.config/libreoffice/4/user/gallery/&#1047;&#1072;&#1087;&#1080;&#1089;&#1072;&#1085;&#1085;&#1099;&#1081;%20&#1079;&#1074;&#1091;&#1082;" TargetMode="External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a3a1"/>
            </a:gs>
            <a:gs pos="50000">
              <a:srgbClr val="ffffcc"/>
            </a:gs>
            <a:gs pos="100000">
              <a:srgbClr val="fda3a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простая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МАТЕМА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4267080"/>
            <a:ext cx="7467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ладываем и вычитаем до п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3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меня было три конфеты, бабушка угостила меня еще одной конфетой. Сколько конфет у меня всего?  (3+1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086600" y="2743200"/>
            <a:ext cx="990720" cy="2742840"/>
            <a:chOff x="7086600" y="2743200"/>
            <a:chExt cx="990720" cy="2742840"/>
          </a:xfrm>
        </p:grpSpPr>
        <p:sp>
          <p:nvSpPr>
            <p:cNvPr id="193" name=""/>
            <p:cNvSpPr/>
            <p:nvPr/>
          </p:nvSpPr>
          <p:spPr>
            <a:xfrm>
              <a:off x="7227720" y="3189600"/>
              <a:ext cx="707760" cy="1849680"/>
            </a:xfrm>
            <a:custGeom>
              <a:avLst/>
              <a:gdLst>
                <a:gd name="textAreaLeft" fmla="*/ 34560 w 707760"/>
                <a:gd name="textAreaRight" fmla="*/ 673200 w 707760"/>
                <a:gd name="textAreaTop" fmla="*/ 34560 h 1849680"/>
                <a:gd name="textAreaBottom" fmla="*/ 1815120 h 1849680"/>
              </a:gdLst>
              <a:ahLst/>
              <a:rect l="textAreaLeft" t="textAreaTop" r="textAreaRight" b="textAreaBottom"/>
              <a:pathLst>
                <a:path w="21600" h="56432">
                  <a:moveTo>
                    <a:pt x="3600" y="0"/>
                  </a:moveTo>
                  <a:arcTo wR="3600" hR="3600" stAng="16200000" swAng="-5400000"/>
                  <a:lnTo>
                    <a:pt x="0" y="52832"/>
                  </a:lnTo>
                  <a:arcTo wR="3600" hR="3600" stAng="10800000" swAng="-5400000"/>
                  <a:lnTo>
                    <a:pt x="18000" y="56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ffff00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86600" y="2743200"/>
              <a:ext cx="990720" cy="446400"/>
            </a:xfrm>
            <a:custGeom>
              <a:avLst/>
              <a:gdLst>
                <a:gd name="textAreaLeft" fmla="*/ 217800 w 990720"/>
                <a:gd name="textAreaRight" fmla="*/ 772920 w 990720"/>
                <a:gd name="textAreaTop" fmla="*/ 97920 h 446400"/>
                <a:gd name="textAreaBottom" fmla="*/ 348480 h 44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0800000">
              <a:off x="7086600" y="5039640"/>
              <a:ext cx="990720" cy="446400"/>
            </a:xfrm>
            <a:custGeom>
              <a:avLst/>
              <a:gdLst>
                <a:gd name="textAreaLeft" fmla="*/ 217800 w 990720"/>
                <a:gd name="textAreaRight" fmla="*/ 772920 w 990720"/>
                <a:gd name="textAreaTop" fmla="*/ 97920 h 446400"/>
                <a:gd name="textAreaBottom" fmla="*/ 348480 h 44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79280" y="3381120"/>
              <a:ext cx="485280" cy="14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Arial"/>
                </a:rPr>
                <a:t>сласте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447920" y="2362320"/>
            <a:ext cx="838080" cy="3200040"/>
            <a:chOff x="1447920" y="2362320"/>
            <a:chExt cx="838080" cy="3200040"/>
          </a:xfrm>
        </p:grpSpPr>
        <p:sp>
          <p:nvSpPr>
            <p:cNvPr id="198" name=""/>
            <p:cNvSpPr/>
            <p:nvPr/>
          </p:nvSpPr>
          <p:spPr>
            <a:xfrm rot="16200000">
              <a:off x="772920" y="3558960"/>
              <a:ext cx="2187720" cy="838080"/>
            </a:xfrm>
            <a:prstGeom prst="ellipse">
              <a:avLst/>
            </a:prstGeom>
            <a:gradFill rotWithShape="0">
              <a:gsLst>
                <a:gs pos="0">
                  <a:srgbClr val="fda3a1"/>
                </a:gs>
                <a:gs pos="50000">
                  <a:srgbClr val="6666ff"/>
                </a:gs>
                <a:gs pos="100000">
                  <a:srgbClr val="fda3a1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17400" y="2362320"/>
              <a:ext cx="698400" cy="522360"/>
            </a:xfrm>
            <a:custGeom>
              <a:avLst/>
              <a:gdLst>
                <a:gd name="textAreaLeft" fmla="*/ 211680 w 698400"/>
                <a:gd name="textAreaRight" fmla="*/ 486720 w 698400"/>
                <a:gd name="textAreaTop" fmla="*/ 158400 h 522360"/>
                <a:gd name="textAreaBottom" fmla="*/ 363960 h 52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da3a1"/>
                </a:gs>
                <a:gs pos="50000">
                  <a:srgbClr val="6666ff"/>
                </a:gs>
                <a:gs pos="100000">
                  <a:srgbClr val="fda3a1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0800000">
              <a:off x="1517400" y="5040000"/>
              <a:ext cx="698400" cy="522360"/>
            </a:xfrm>
            <a:custGeom>
              <a:avLst/>
              <a:gdLst>
                <a:gd name="textAreaLeft" fmla="*/ 211680 w 698400"/>
                <a:gd name="textAreaRight" fmla="*/ 486720 w 698400"/>
                <a:gd name="textAreaTop" fmla="*/ 158400 h 522360"/>
                <a:gd name="textAreaBottom" fmla="*/ 363960 h 52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da3a1"/>
                </a:gs>
                <a:gs pos="50000">
                  <a:srgbClr val="6666ff"/>
                </a:gs>
                <a:gs pos="100000">
                  <a:srgbClr val="fda3a1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572000" y="2362320"/>
            <a:ext cx="838080" cy="3275640"/>
            <a:chOff x="4572000" y="2362320"/>
            <a:chExt cx="838080" cy="3275640"/>
          </a:xfrm>
        </p:grpSpPr>
        <p:sp>
          <p:nvSpPr>
            <p:cNvPr id="202" name=""/>
            <p:cNvSpPr/>
            <p:nvPr/>
          </p:nvSpPr>
          <p:spPr>
            <a:xfrm rot="16200000">
              <a:off x="3871080" y="3597840"/>
              <a:ext cx="2239920" cy="838080"/>
            </a:xfrm>
            <a:prstGeom prst="ellipse">
              <a:avLst/>
            </a:prstGeom>
            <a:gradFill rotWithShape="0">
              <a:gsLst>
                <a:gs pos="0">
                  <a:srgbClr val="99ffcc"/>
                </a:gs>
                <a:gs pos="50000">
                  <a:srgbClr val="ff0000"/>
                </a:gs>
                <a:gs pos="100000">
                  <a:srgbClr val="99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41840" y="2362320"/>
              <a:ext cx="698400" cy="534600"/>
            </a:xfrm>
            <a:custGeom>
              <a:avLst/>
              <a:gdLst>
                <a:gd name="textAreaLeft" fmla="*/ 211680 w 698400"/>
                <a:gd name="textAreaRight" fmla="*/ 486720 w 698400"/>
                <a:gd name="textAreaTop" fmla="*/ 162000 h 534600"/>
                <a:gd name="textAreaBottom" fmla="*/ 372600 h 53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50000">
                  <a:srgbClr val="ff0000"/>
                </a:gs>
                <a:gs pos="100000">
                  <a:srgbClr val="99ff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0800000">
              <a:off x="4641840" y="5103360"/>
              <a:ext cx="698400" cy="534600"/>
            </a:xfrm>
            <a:custGeom>
              <a:avLst/>
              <a:gdLst>
                <a:gd name="textAreaLeft" fmla="*/ 211680 w 698400"/>
                <a:gd name="textAreaRight" fmla="*/ 486720 w 698400"/>
                <a:gd name="textAreaTop" fmla="*/ 162000 h 534600"/>
                <a:gd name="textAreaBottom" fmla="*/ 372600 h 53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50000">
                  <a:srgbClr val="ff0000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124080" y="2362320"/>
            <a:ext cx="838440" cy="3276000"/>
            <a:chOff x="3124080" y="2362320"/>
            <a:chExt cx="838440" cy="3276000"/>
          </a:xfrm>
        </p:grpSpPr>
        <p:sp>
          <p:nvSpPr>
            <p:cNvPr id="206" name=""/>
            <p:cNvSpPr/>
            <p:nvPr/>
          </p:nvSpPr>
          <p:spPr>
            <a:xfrm rot="16200000">
              <a:off x="2423160" y="3597480"/>
              <a:ext cx="2239920" cy="838440"/>
            </a:xfrm>
            <a:prstGeom prst="ellipse">
              <a:avLst/>
            </a:prstGeom>
            <a:gradFill rotWithShape="0">
              <a:gsLst>
                <a:gs pos="0">
                  <a:srgbClr val="6666ff"/>
                </a:gs>
                <a:gs pos="50000">
                  <a:srgbClr val="ffff00"/>
                </a:gs>
                <a:gs pos="100000">
                  <a:srgbClr val="6666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93920" y="2362320"/>
              <a:ext cx="698760" cy="534600"/>
            </a:xfrm>
            <a:custGeom>
              <a:avLst/>
              <a:gdLst>
                <a:gd name="textAreaLeft" fmla="*/ 211680 w 698760"/>
                <a:gd name="textAreaRight" fmla="*/ 487080 w 698760"/>
                <a:gd name="textAreaTop" fmla="*/ 162000 h 534600"/>
                <a:gd name="textAreaBottom" fmla="*/ 372600 h 53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50000">
                  <a:srgbClr val="ffff00"/>
                </a:gs>
                <a:gs pos="100000">
                  <a:srgbClr val="6666ff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0800000">
              <a:off x="3193560" y="5103360"/>
              <a:ext cx="698760" cy="534960"/>
            </a:xfrm>
            <a:custGeom>
              <a:avLst/>
              <a:gdLst>
                <a:gd name="textAreaLeft" fmla="*/ 211680 w 698760"/>
                <a:gd name="textAreaRight" fmla="*/ 487080 w 698760"/>
                <a:gd name="textAreaTop" fmla="*/ 162000 h 534960"/>
                <a:gd name="textAreaBottom" fmla="*/ 372960 h 53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960" y="21600"/>
                  </a:lnTo>
                  <a:lnTo>
                    <a:pt x="864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666ff"/>
                </a:gs>
                <a:gs pos="50000">
                  <a:srgbClr val="ffff00"/>
                </a:gs>
                <a:gs pos="100000">
                  <a:srgbClr val="6666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773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0267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267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2674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Маши было три цветка, один она подарила Ире, другой – Кате. Сколько цветов осталось у Маши? (3-1-1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629040" y="2209680"/>
            <a:ext cx="2439360" cy="6544800"/>
            <a:chOff x="6629040" y="2209680"/>
            <a:chExt cx="2439360" cy="6544800"/>
          </a:xfrm>
        </p:grpSpPr>
        <p:sp>
          <p:nvSpPr>
            <p:cNvPr id="213" name=""/>
            <p:cNvSpPr/>
            <p:nvPr/>
          </p:nvSpPr>
          <p:spPr>
            <a:xfrm rot="5400000">
              <a:off x="6724800" y="2461320"/>
              <a:ext cx="1183680" cy="1375560"/>
            </a:xfrm>
            <a:prstGeom prst="flowChartDelay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76680" y="2348640"/>
              <a:ext cx="0" cy="278640"/>
            </a:xfrm>
            <a:prstGeom prst="line">
              <a:avLst/>
            </a:prstGeom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95680" y="2209680"/>
              <a:ext cx="162000" cy="208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29400" y="3741480"/>
              <a:ext cx="1132560" cy="501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2481600">
              <a:off x="7923960" y="4367880"/>
              <a:ext cx="686160" cy="164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208" y="1581"/>
                    <a:pt x="8815" y="5080"/>
                    <a:pt x="8815" y="10800"/>
                  </a:cubicBezTo>
                  <a:cubicBezTo>
                    <a:pt x="8815" y="16520"/>
                    <a:pt x="15208" y="2001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33680" y="3532320"/>
              <a:ext cx="566640" cy="2088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28600" y="2057400"/>
            <a:ext cx="2285640" cy="4267080"/>
            <a:chOff x="228600" y="2057400"/>
            <a:chExt cx="2285640" cy="4267080"/>
          </a:xfrm>
        </p:grpSpPr>
        <p:grpSp>
          <p:nvGrpSpPr>
            <p:cNvPr id="220" name=""/>
            <p:cNvGrpSpPr/>
            <p:nvPr/>
          </p:nvGrpSpPr>
          <p:grpSpPr>
            <a:xfrm>
              <a:off x="228600" y="2057400"/>
              <a:ext cx="2285640" cy="2209320"/>
              <a:chOff x="228600" y="2057400"/>
              <a:chExt cx="2285640" cy="2209320"/>
            </a:xfrm>
          </p:grpSpPr>
          <p:sp>
            <p:nvSpPr>
              <p:cNvPr id="221" name=""/>
              <p:cNvSpPr/>
              <p:nvPr/>
            </p:nvSpPr>
            <p:spPr>
              <a:xfrm>
                <a:off x="514080" y="2333520"/>
                <a:ext cx="1714320" cy="1657080"/>
              </a:xfrm>
              <a:prstGeom prst="ellipse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8600" y="2057400"/>
                <a:ext cx="2285640" cy="2209320"/>
              </a:xfrm>
              <a:prstGeom prst="sun">
                <a:avLst>
                  <a:gd name="adj" fmla="val 22828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085760" y="2885760"/>
                <a:ext cx="571320" cy="5522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1523880" y="3962520"/>
              <a:ext cx="0" cy="23619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2319000">
              <a:off x="761760" y="5028840"/>
              <a:ext cx="83808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8445000">
              <a:off x="1447560" y="4419360"/>
              <a:ext cx="838080" cy="2286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4920" y="2209680"/>
              <a:ext cx="2133360" cy="1905120"/>
            </a:xfrm>
            <a:prstGeom prst="sun">
              <a:avLst>
                <a:gd name="adj" fmla="val 44365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971080" y="2046960"/>
            <a:ext cx="2914920" cy="6967080"/>
            <a:chOff x="2971080" y="2046960"/>
            <a:chExt cx="2914920" cy="6967080"/>
          </a:xfrm>
        </p:grpSpPr>
        <p:grpSp>
          <p:nvGrpSpPr>
            <p:cNvPr id="229" name=""/>
            <p:cNvGrpSpPr/>
            <p:nvPr/>
          </p:nvGrpSpPr>
          <p:grpSpPr>
            <a:xfrm>
              <a:off x="3341880" y="2046960"/>
              <a:ext cx="2544120" cy="2617200"/>
              <a:chOff x="3341880" y="2046960"/>
              <a:chExt cx="2544120" cy="2617200"/>
            </a:xfrm>
          </p:grpSpPr>
          <p:sp>
            <p:nvSpPr>
              <p:cNvPr id="230" name=""/>
              <p:cNvSpPr/>
              <p:nvPr/>
            </p:nvSpPr>
            <p:spPr>
              <a:xfrm rot="21406200">
                <a:off x="4378680" y="205740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21200">
                <a:off x="4891680" y="215712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5008800">
                <a:off x="5077440" y="2662920"/>
                <a:ext cx="398520" cy="1180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5592000">
                <a:off x="3742920" y="2762280"/>
                <a:ext cx="398520" cy="118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8905400">
                <a:off x="3865680" y="225648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346600">
                <a:off x="3967920" y="335268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21294600">
                <a:off x="4481640" y="3502440"/>
                <a:ext cx="410400" cy="1145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873000">
                <a:off x="4975200" y="3260520"/>
                <a:ext cx="398520" cy="118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79040" y="3103560"/>
                <a:ext cx="461520" cy="4482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 rot="11590800">
              <a:off x="3048120" y="5562000"/>
              <a:ext cx="1635120" cy="866520"/>
            </a:xfrm>
            <a:prstGeom prst="lightningBol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419000" y="3831840"/>
              <a:ext cx="151560" cy="518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02" y="227"/>
                  </a:moveTo>
                  <a:arcTo wR="10800" hR="10800" stAng="-4694246" swAng="4694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02" y="227"/>
                  </a:moveTo>
                  <a:arcTo wR="10800" hR="10800" stAng="-4694246" swAng="4694246"/>
                </a:path>
              </a:pathLst>
            </a:custGeom>
            <a:noFill/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 rot="20510400">
              <a:off x="4191120" y="5409720"/>
              <a:ext cx="1447560" cy="1038600"/>
            </a:xfrm>
            <a:prstGeom prst="lightningBol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05920" y="-2332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9838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9838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3323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a3a1"/>
            </a:gs>
            <a:gs pos="50000">
              <a:srgbClr val="ffffff"/>
            </a:gs>
            <a:gs pos="100000">
              <a:srgbClr val="fda3a1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КОНЕ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926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ма подарила мне красный шарик, а папа дал синий шарик. Сколько шариков у меня всего?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+1=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981080" y="2057400"/>
            <a:ext cx="1676520" cy="4419720"/>
            <a:chOff x="1981080" y="2057400"/>
            <a:chExt cx="1676520" cy="4419720"/>
          </a:xfrm>
        </p:grpSpPr>
        <p:sp>
          <p:nvSpPr>
            <p:cNvPr id="46" name=""/>
            <p:cNvSpPr/>
            <p:nvPr/>
          </p:nvSpPr>
          <p:spPr>
            <a:xfrm>
              <a:off x="1981080" y="2057400"/>
              <a:ext cx="1676520" cy="3048120"/>
            </a:xfrm>
            <a:prstGeom prst="ellipse">
              <a:avLst/>
            </a:prstGeom>
            <a:solidFill>
              <a:srgbClr val="e7356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19520" y="510552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62320" y="2743200"/>
              <a:ext cx="228600" cy="53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952880" y="2057400"/>
            <a:ext cx="1676160" cy="4343400"/>
            <a:chOff x="4952880" y="2057400"/>
            <a:chExt cx="1676160" cy="4343400"/>
          </a:xfrm>
        </p:grpSpPr>
        <p:sp>
          <p:nvSpPr>
            <p:cNvPr id="50" name=""/>
            <p:cNvSpPr/>
            <p:nvPr/>
          </p:nvSpPr>
          <p:spPr>
            <a:xfrm>
              <a:off x="4952880" y="2057400"/>
              <a:ext cx="1676160" cy="3048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90960" y="502920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3760" y="2590920"/>
              <a:ext cx="228600" cy="53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669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669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8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мамы в корзинке два больших гриба, а у меня два маленьких грибка. Сколько всего у нас с мамой грибов? (2+2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14400" y="2590920"/>
            <a:ext cx="3352320" cy="3733200"/>
            <a:chOff x="914400" y="2590920"/>
            <a:chExt cx="3352320" cy="3733200"/>
          </a:xfrm>
        </p:grpSpPr>
        <p:sp>
          <p:nvSpPr>
            <p:cNvPr id="57" name=""/>
            <p:cNvSpPr/>
            <p:nvPr/>
          </p:nvSpPr>
          <p:spPr>
            <a:xfrm rot="5400000">
              <a:off x="1612800" y="3670200"/>
              <a:ext cx="1955520" cy="3352320"/>
            </a:xfrm>
            <a:prstGeom prst="flowChartDelay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14400" y="2590920"/>
              <a:ext cx="3352320" cy="3555720"/>
            </a:xfrm>
            <a:prstGeom prst="blockArc">
              <a:avLst>
                <a:gd name="adj1" fmla="val 10900931"/>
                <a:gd name="adj2" fmla="val 21499069"/>
                <a:gd name="adj3" fmla="val 6157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181480" y="3124080"/>
            <a:ext cx="2590560" cy="2971440"/>
            <a:chOff x="5181480" y="3124080"/>
            <a:chExt cx="2590560" cy="2971440"/>
          </a:xfrm>
        </p:grpSpPr>
        <p:sp>
          <p:nvSpPr>
            <p:cNvPr id="60" name=""/>
            <p:cNvSpPr/>
            <p:nvPr/>
          </p:nvSpPr>
          <p:spPr>
            <a:xfrm rot="5400000">
              <a:off x="5698440" y="4021920"/>
              <a:ext cx="1556640" cy="2590560"/>
            </a:xfrm>
            <a:prstGeom prst="flowChartDelay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81480" y="3124080"/>
              <a:ext cx="2590560" cy="2830320"/>
            </a:xfrm>
            <a:prstGeom prst="blockArc">
              <a:avLst>
                <a:gd name="adj1" fmla="val 10900931"/>
                <a:gd name="adj2" fmla="val 21499069"/>
                <a:gd name="adj3" fmla="val 6157"/>
              </a:avLst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791320" y="3886200"/>
            <a:ext cx="457200" cy="609120"/>
            <a:chOff x="5791320" y="3886200"/>
            <a:chExt cx="457200" cy="609120"/>
          </a:xfrm>
        </p:grpSpPr>
        <p:sp>
          <p:nvSpPr>
            <p:cNvPr id="63" name=""/>
            <p:cNvSpPr/>
            <p:nvPr/>
          </p:nvSpPr>
          <p:spPr>
            <a:xfrm>
              <a:off x="5905440" y="4089240"/>
              <a:ext cx="228600" cy="4060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5867640" y="3809880"/>
              <a:ext cx="304560" cy="457200"/>
            </a:xfrm>
            <a:prstGeom prst="flowChartDelay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629400" y="3962520"/>
            <a:ext cx="380880" cy="533160"/>
            <a:chOff x="6629400" y="3962520"/>
            <a:chExt cx="380880" cy="533160"/>
          </a:xfrm>
        </p:grpSpPr>
        <p:sp>
          <p:nvSpPr>
            <p:cNvPr id="66" name=""/>
            <p:cNvSpPr/>
            <p:nvPr/>
          </p:nvSpPr>
          <p:spPr>
            <a:xfrm>
              <a:off x="6724440" y="4140360"/>
              <a:ext cx="190440" cy="3553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6200000">
              <a:off x="6686640" y="3905280"/>
              <a:ext cx="266400" cy="380880"/>
            </a:xfrm>
            <a:prstGeom prst="flowChartDelay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447920" y="3200040"/>
            <a:ext cx="1142640" cy="1143000"/>
            <a:chOff x="1447920" y="3200040"/>
            <a:chExt cx="1142640" cy="1143000"/>
          </a:xfrm>
        </p:grpSpPr>
        <p:sp>
          <p:nvSpPr>
            <p:cNvPr id="69" name=""/>
            <p:cNvSpPr/>
            <p:nvPr/>
          </p:nvSpPr>
          <p:spPr>
            <a:xfrm>
              <a:off x="1733400" y="3581280"/>
              <a:ext cx="571680" cy="7617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1733400" y="2914200"/>
              <a:ext cx="571320" cy="1142640"/>
            </a:xfrm>
            <a:prstGeom prst="flowChartDelay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666880" y="3200040"/>
            <a:ext cx="990360" cy="1143000"/>
            <a:chOff x="2666880" y="3200040"/>
            <a:chExt cx="990360" cy="1143000"/>
          </a:xfrm>
        </p:grpSpPr>
        <p:sp>
          <p:nvSpPr>
            <p:cNvPr id="72" name=""/>
            <p:cNvSpPr/>
            <p:nvPr/>
          </p:nvSpPr>
          <p:spPr>
            <a:xfrm>
              <a:off x="2914200" y="3581280"/>
              <a:ext cx="495360" cy="7617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200000">
              <a:off x="2876400" y="2990520"/>
              <a:ext cx="571320" cy="990360"/>
            </a:xfrm>
            <a:prstGeom prst="flowChartDelay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91440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868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868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754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Маши было 2 книжки, одну она дала почитать подружк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книг осталось у Маши? (2-1=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05120" y="2209680"/>
            <a:ext cx="2133360" cy="2819520"/>
            <a:chOff x="1905120" y="2209680"/>
            <a:chExt cx="2133360" cy="2819520"/>
          </a:xfrm>
        </p:grpSpPr>
        <p:sp>
          <p:nvSpPr>
            <p:cNvPr id="78" name=""/>
            <p:cNvSpPr/>
            <p:nvPr/>
          </p:nvSpPr>
          <p:spPr>
            <a:xfrm>
              <a:off x="1905120" y="2209680"/>
              <a:ext cx="2133360" cy="2819520"/>
            </a:xfrm>
            <a:prstGeom prst="cube">
              <a:avLst>
                <a:gd name="adj" fmla="val 611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73880" y="2612160"/>
              <a:ext cx="178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ff"/>
                  </a:solidFill>
                  <a:uFillTx/>
                  <a:latin typeface="Century"/>
                </a:rPr>
                <a:t>СКАЗ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55200" y="3485160"/>
              <a:ext cx="963360" cy="939600"/>
            </a:xfrm>
            <a:prstGeom prst="smileyFace">
              <a:avLst>
                <a:gd name="adj" fmla="val 9282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17680" y="3350880"/>
              <a:ext cx="343800" cy="3355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12640" y="3350880"/>
              <a:ext cx="343800" cy="3355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68120" y="4021920"/>
              <a:ext cx="206280" cy="66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800600" y="1905120"/>
            <a:ext cx="2666880" cy="3200400"/>
            <a:chOff x="4800600" y="1905120"/>
            <a:chExt cx="2666880" cy="3200400"/>
          </a:xfrm>
        </p:grpSpPr>
        <p:sp>
          <p:nvSpPr>
            <p:cNvPr id="85" name=""/>
            <p:cNvSpPr/>
            <p:nvPr/>
          </p:nvSpPr>
          <p:spPr>
            <a:xfrm>
              <a:off x="4876920" y="1905120"/>
              <a:ext cx="2590560" cy="3200400"/>
            </a:xfrm>
            <a:prstGeom prst="cube">
              <a:avLst>
                <a:gd name="adj" fmla="val 6115"/>
              </a:avLst>
            </a:prstGeom>
            <a:gradFill rotWithShape="0">
              <a:gsLst>
                <a:gs pos="0">
                  <a:srgbClr val="fda3a1"/>
                </a:gs>
                <a:gs pos="50000">
                  <a:srgbClr val="ffffff"/>
                </a:gs>
                <a:gs pos="100000">
                  <a:srgbClr val="fda3a1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00600" y="2438640"/>
              <a:ext cx="236232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СТИХ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ДЛ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САМЫХ МАЛЕНЬКИ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5105520" y="4495680"/>
            <a:ext cx="609480" cy="5335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2133720"/>
            <a:ext cx="533160" cy="5331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2960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92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2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372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ветке пять листьев?  Два листика упало на землю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листьев осталось на ветке? (5-2=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960" y="742680"/>
            <a:ext cx="5942880" cy="5733360"/>
            <a:chOff x="228960" y="742680"/>
            <a:chExt cx="5942880" cy="5733360"/>
          </a:xfrm>
        </p:grpSpPr>
        <p:sp>
          <p:nvSpPr>
            <p:cNvPr id="93" name=""/>
            <p:cNvSpPr/>
            <p:nvPr/>
          </p:nvSpPr>
          <p:spPr>
            <a:xfrm flipV="1">
              <a:off x="457200" y="2590560"/>
              <a:ext cx="5410080" cy="281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57560" y="912240"/>
              <a:ext cx="1675440" cy="396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6017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6017596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960" y="4495680"/>
              <a:ext cx="396144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2666880" y="989640"/>
              <a:ext cx="1218960" cy="289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3910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39102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77080" y="3276360"/>
              <a:ext cx="25898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428280" y="4343400"/>
              <a:ext cx="2437560" cy="761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16" y="815"/>
                  </a:moveTo>
                  <a:arcTo wR="10800" hR="10800" stAng="-4055938" swAng="405593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16" y="815"/>
                  </a:moveTo>
                  <a:arcTo wR="10800" hR="10800" stAng="-4055938" swAng="405593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1447560" y="2284920"/>
              <a:ext cx="1370880" cy="121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03540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03540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257800" y="3430440"/>
              <a:ext cx="303840" cy="106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4410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44109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724640" y="742680"/>
              <a:ext cx="1065960" cy="213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751" y="42"/>
                  </a:moveTo>
                  <a:arcTo wR="10800" hR="10800" stAng="-5096902" swAng="5279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751" y="42"/>
                  </a:moveTo>
                  <a:arcTo wR="10800" hR="10800" stAng="-5096902" swAng="527985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2880" y="2742840"/>
              <a:ext cx="121896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353400" y="1904040"/>
              <a:ext cx="10656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448280" y="2970720"/>
              <a:ext cx="1218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3429000" y="1141920"/>
              <a:ext cx="9136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52880" y="3504960"/>
              <a:ext cx="1218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581280" y="4952880"/>
              <a:ext cx="609120" cy="152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5410080" y="1370880"/>
              <a:ext cx="60912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 rot="21304800">
            <a:off x="3200040" y="5638680"/>
            <a:ext cx="762120" cy="762120"/>
          </a:xfrm>
          <a:custGeom>
            <a:avLst/>
            <a:gdLst>
              <a:gd name="textAreaLeft" fmla="*/ 178920 w 762120"/>
              <a:gd name="textAreaRight" fmla="*/ 582480 w 76212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9161600">
            <a:off x="6095880" y="2819160"/>
            <a:ext cx="609840" cy="685800"/>
          </a:xfrm>
          <a:custGeom>
            <a:avLst/>
            <a:gdLst>
              <a:gd name="textAreaLeft" fmla="*/ 143280 w 609840"/>
              <a:gd name="textAreaRight" fmla="*/ 466200 w 609840"/>
              <a:gd name="textAreaTop" fmla="*/ 80640 h 685800"/>
              <a:gd name="textAreaBottom" fmla="*/ 430200 h 685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8890800">
            <a:off x="2894760" y="1294920"/>
            <a:ext cx="762120" cy="762120"/>
          </a:xfrm>
          <a:custGeom>
            <a:avLst/>
            <a:gdLst>
              <a:gd name="textAreaLeft" fmla="*/ 178920 w 762120"/>
              <a:gd name="textAreaRight" fmla="*/ 582480 w 76212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1219600">
            <a:off x="4952880" y="4038120"/>
            <a:ext cx="762120" cy="762120"/>
          </a:xfrm>
          <a:custGeom>
            <a:avLst/>
            <a:gdLst>
              <a:gd name="textAreaLeft" fmla="*/ 178920 w 762120"/>
              <a:gd name="textAreaRight" fmla="*/ 582480 w 76212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6385800">
            <a:off x="837360" y="2666520"/>
            <a:ext cx="762120" cy="762120"/>
          </a:xfrm>
          <a:custGeom>
            <a:avLst/>
            <a:gdLst>
              <a:gd name="textAreaLeft" fmla="*/ 178920 w 762120"/>
              <a:gd name="textAreaRight" fmla="*/ 582480 w 76212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91440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870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701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056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земле лежит два яблока, с ветки упало еще одно. Сколько яблок на земле? (2+1=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371600" y="2874600"/>
            <a:ext cx="1447920" cy="2230560"/>
            <a:chOff x="1371600" y="2874600"/>
            <a:chExt cx="1447920" cy="2230560"/>
          </a:xfrm>
        </p:grpSpPr>
        <p:sp>
          <p:nvSpPr>
            <p:cNvPr id="118" name=""/>
            <p:cNvSpPr/>
            <p:nvPr/>
          </p:nvSpPr>
          <p:spPr>
            <a:xfrm>
              <a:off x="1371600" y="3830400"/>
              <a:ext cx="1447920" cy="1274760"/>
            </a:xfrm>
            <a:prstGeom prst="ellipse">
              <a:avLst/>
            </a:prstGeom>
            <a:gradFill rotWithShape="0">
              <a:gsLst>
                <a:gs pos="0">
                  <a:srgbClr val="fda3a1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915200" y="2874240"/>
              <a:ext cx="360720" cy="955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14480" y="4998960"/>
              <a:ext cx="361800" cy="106200"/>
            </a:xfrm>
            <a:prstGeom prst="irregularSeal2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809880" y="3216240"/>
            <a:ext cx="1524240" cy="1964880"/>
            <a:chOff x="3809880" y="3216240"/>
            <a:chExt cx="1524240" cy="1964880"/>
          </a:xfrm>
        </p:grpSpPr>
        <p:sp>
          <p:nvSpPr>
            <p:cNvPr id="122" name=""/>
            <p:cNvSpPr/>
            <p:nvPr/>
          </p:nvSpPr>
          <p:spPr>
            <a:xfrm>
              <a:off x="3809880" y="3794040"/>
              <a:ext cx="1524240" cy="1387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4445280" y="3215880"/>
              <a:ext cx="253440" cy="57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1200" y="5065920"/>
              <a:ext cx="380880" cy="115200"/>
            </a:xfrm>
            <a:prstGeom prst="irregularSeal2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3048120"/>
            <a:ext cx="1371600" cy="2133000"/>
            <a:chOff x="6553080" y="3048120"/>
            <a:chExt cx="1371600" cy="2133000"/>
          </a:xfrm>
        </p:grpSpPr>
        <p:sp>
          <p:nvSpPr>
            <p:cNvPr id="126" name=""/>
            <p:cNvSpPr/>
            <p:nvPr/>
          </p:nvSpPr>
          <p:spPr>
            <a:xfrm>
              <a:off x="6553080" y="3962160"/>
              <a:ext cx="1371600" cy="1218960"/>
            </a:xfrm>
            <a:prstGeom prst="ellipse">
              <a:avLst/>
            </a:prstGeom>
            <a:gradFill rotWithShape="0">
              <a:gsLst>
                <a:gs pos="0">
                  <a:srgbClr val="fda3a1"/>
                </a:gs>
                <a:gs pos="100000">
                  <a:srgbClr val="ff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067880" y="3047760"/>
              <a:ext cx="342000" cy="91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67160" y="5079600"/>
              <a:ext cx="342720" cy="101520"/>
            </a:xfrm>
            <a:prstGeom prst="irregularSeal2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059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214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214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42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небе горит пять звездочек, одна погасла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звездочек теперь горит на небе? (5-1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3429000"/>
            <a:ext cx="1143000" cy="121932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181480"/>
            <a:ext cx="1143000" cy="121932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5105520"/>
            <a:ext cx="990720" cy="106668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1905120"/>
            <a:ext cx="1143000" cy="121896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1447920"/>
            <a:ext cx="1067040" cy="1143000"/>
          </a:xfrm>
          <a:prstGeom prst="sun">
            <a:avLst>
              <a:gd name="adj" fmla="val 3958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3818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755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553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2774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ffffcc"/>
            </a:gs>
            <a:gs pos="100000">
              <a:srgbClr val="cc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 пирамидка из двух кубиков – покажи, какая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угая пирамидка из трех кубиков – покажи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всего кубиков в двух пирамидках? (2+3=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114800" y="2590920"/>
            <a:ext cx="1600200" cy="2514600"/>
            <a:chOff x="4114800" y="2590920"/>
            <a:chExt cx="1600200" cy="2514600"/>
          </a:xfrm>
        </p:grpSpPr>
        <p:sp>
          <p:nvSpPr>
            <p:cNvPr id="141" name=""/>
            <p:cNvSpPr/>
            <p:nvPr/>
          </p:nvSpPr>
          <p:spPr>
            <a:xfrm>
              <a:off x="4114800" y="4114800"/>
              <a:ext cx="1066680" cy="990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3352680"/>
              <a:ext cx="1066680" cy="990720"/>
            </a:xfrm>
            <a:prstGeom prst="cube">
              <a:avLst>
                <a:gd name="adj" fmla="val 25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48320" y="2590920"/>
              <a:ext cx="1066680" cy="9903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676520" y="3276720"/>
            <a:ext cx="1218960" cy="1828800"/>
            <a:chOff x="1676520" y="3276720"/>
            <a:chExt cx="1218960" cy="1828800"/>
          </a:xfrm>
        </p:grpSpPr>
        <p:sp>
          <p:nvSpPr>
            <p:cNvPr id="145" name=""/>
            <p:cNvSpPr/>
            <p:nvPr/>
          </p:nvSpPr>
          <p:spPr>
            <a:xfrm>
              <a:off x="1828800" y="4114800"/>
              <a:ext cx="1066680" cy="990720"/>
            </a:xfrm>
            <a:prstGeom prst="cube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76520" y="3276720"/>
              <a:ext cx="1066680" cy="99036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773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914400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469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690"/>
                            </p:stCondLst>
                            <p:childTnLst>
                              <p:par>
                                <p:cTn id="87" nodeType="afterEffect" fill="hold" presetClass="emph" presetID="35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19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35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1541"/>
                            </p:stCondLst>
                            <p:childTnLst>
                              <p:par>
                                <p:cTn id="93" nodeType="afterEffect" fill="hold" presetClass="emph" presetID="35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4041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802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7843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834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небо полетел воздушный змей, по дороге одна ленточка оторвалась. Сколько ленточек осталось у воздушного змея? ( 5-1=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584400" y="-2576520"/>
            <a:ext cx="5556600" cy="6413400"/>
            <a:chOff x="6584400" y="-2576520"/>
            <a:chExt cx="5556600" cy="6413400"/>
          </a:xfrm>
        </p:grpSpPr>
        <p:sp>
          <p:nvSpPr>
            <p:cNvPr id="153" name=""/>
            <p:cNvSpPr/>
            <p:nvPr/>
          </p:nvSpPr>
          <p:spPr>
            <a:xfrm rot="1528200">
              <a:off x="9067680" y="1523520"/>
              <a:ext cx="563400" cy="840960"/>
            </a:xfrm>
            <a:prstGeom prst="flowChartCollat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876800">
              <a:off x="8457840" y="2209320"/>
              <a:ext cx="563760" cy="840960"/>
            </a:xfrm>
            <a:prstGeom prst="flowChartCollat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3964200">
              <a:off x="7682400" y="2756160"/>
              <a:ext cx="563040" cy="841320"/>
            </a:xfrm>
            <a:prstGeom prst="flowChartCollat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8966520" y="-2576520"/>
              <a:ext cx="3174480" cy="3704760"/>
              <a:chOff x="8966520" y="-2576520"/>
              <a:chExt cx="3174480" cy="3704760"/>
            </a:xfrm>
          </p:grpSpPr>
          <p:sp>
            <p:nvSpPr>
              <p:cNvPr id="157" name=""/>
              <p:cNvSpPr/>
              <p:nvPr/>
            </p:nvSpPr>
            <p:spPr>
              <a:xfrm rot="1246800">
                <a:off x="9448560" y="-2286000"/>
                <a:ext cx="2209680" cy="3124080"/>
              </a:xfrm>
              <a:prstGeom prst="diamond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7446800">
                <a:off x="10130760" y="-1456560"/>
                <a:ext cx="462960" cy="4546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7446800">
                <a:off x="10799280" y="-1202760"/>
                <a:ext cx="462960" cy="4546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246800">
                <a:off x="10267560" y="-1472040"/>
                <a:ext cx="129600" cy="462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1246800">
                <a:off x="10936080" y="-1218600"/>
                <a:ext cx="129960" cy="462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9301200">
                <a:off x="9917280" y="-1181160"/>
                <a:ext cx="1272240" cy="116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9841320" y="-429840"/>
                <a:ext cx="182880" cy="11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774440" y="-207000"/>
                <a:ext cx="12060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059200">
                <a:off x="10163520" y="-174960"/>
                <a:ext cx="360000" cy="2894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246800">
                <a:off x="10257120" y="-1300680"/>
                <a:ext cx="129600" cy="17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246800">
                <a:off x="10925640" y="-1046880"/>
                <a:ext cx="129960" cy="17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rot="4758000">
              <a:off x="6768000" y="3061080"/>
              <a:ext cx="563400" cy="841320"/>
            </a:xfrm>
            <a:prstGeom prst="flowChartCollat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16400">
              <a:off x="9524880" y="761760"/>
              <a:ext cx="563400" cy="855360"/>
            </a:xfrm>
            <a:prstGeom prst="flowChartCollat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 rot="4758000">
            <a:off x="1890720" y="5499720"/>
            <a:ext cx="563760" cy="841320"/>
          </a:xfrm>
          <a:prstGeom prst="flowChartCollat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502800" y="547560"/>
            <a:ext cx="4675680" cy="6182280"/>
            <a:chOff x="3502800" y="547560"/>
            <a:chExt cx="4675680" cy="6182280"/>
          </a:xfrm>
        </p:grpSpPr>
        <p:sp>
          <p:nvSpPr>
            <p:cNvPr id="172" name=""/>
            <p:cNvSpPr/>
            <p:nvPr/>
          </p:nvSpPr>
          <p:spPr>
            <a:xfrm rot="1528200">
              <a:off x="5104800" y="4647960"/>
              <a:ext cx="563760" cy="841320"/>
            </a:xfrm>
            <a:prstGeom prst="flowChartCollat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876800">
              <a:off x="4495320" y="5333760"/>
              <a:ext cx="563400" cy="841320"/>
            </a:xfrm>
            <a:prstGeom prst="flowChartCollat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3964200">
              <a:off x="3719520" y="5880960"/>
              <a:ext cx="563760" cy="841320"/>
            </a:xfrm>
            <a:prstGeom prst="flowChartCollat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004000" y="547560"/>
              <a:ext cx="3174480" cy="3704760"/>
              <a:chOff x="5004000" y="547560"/>
              <a:chExt cx="3174480" cy="3704760"/>
            </a:xfrm>
          </p:grpSpPr>
          <p:sp>
            <p:nvSpPr>
              <p:cNvPr id="176" name=""/>
              <p:cNvSpPr/>
              <p:nvPr/>
            </p:nvSpPr>
            <p:spPr>
              <a:xfrm rot="1246800">
                <a:off x="5486040" y="837720"/>
                <a:ext cx="2209680" cy="3124080"/>
              </a:xfrm>
              <a:prstGeom prst="diamond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7446800">
                <a:off x="6168960" y="1666800"/>
                <a:ext cx="462960" cy="4546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7446800">
                <a:off x="6837480" y="1920240"/>
                <a:ext cx="462960" cy="4546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246800">
                <a:off x="6305400" y="1651320"/>
                <a:ext cx="129600" cy="462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246800">
                <a:off x="6973920" y="1904760"/>
                <a:ext cx="129960" cy="462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9301200">
                <a:off x="5955480" y="1941480"/>
                <a:ext cx="1272240" cy="116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5878800" y="2693880"/>
                <a:ext cx="183240" cy="11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812280" y="2916720"/>
                <a:ext cx="12060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2059200">
                <a:off x="6201000" y="2948400"/>
                <a:ext cx="360000" cy="2894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246800">
                <a:off x="6294960" y="1822680"/>
                <a:ext cx="129600" cy="17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246800">
                <a:off x="6963480" y="2076480"/>
                <a:ext cx="129960" cy="173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rot="1016400">
              <a:off x="5562000" y="3885840"/>
              <a:ext cx="563760" cy="855720"/>
            </a:xfrm>
            <a:prstGeom prst="flowChartCollat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77240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81880" y="-68580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3243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243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6216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8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459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1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34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09-08-10T06:18:2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